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5292-D7C8-4F43-9DFC-ED79B8E1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5BC-677D-4351-A360-F64006A2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8D8-60D3-462A-8D0D-AB32103A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C44-0EFC-41EA-87A0-6C38C815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A585-34E9-45D5-A980-EDB81628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70B-858F-4157-B3EE-4AAF1324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D1C-2C64-49D3-B145-C01324B8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793-B958-43B2-B464-923EBCB0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974-9A5F-4E80-94B1-1038B22C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090-1FB4-42DB-AE5F-FF644D4A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3A9-6716-404F-8994-DA426342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D7B-4D90-4466-992F-F4387D71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3C50-4F0C-413D-ACB8-CD2F5A6D2C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22solid gre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rpose of Advisory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al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AP Career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e Road to Financial Matur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Lessons in Personal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This year we will be looking at the steps to becoming financially mature, how to be responsible with your money, and how to build weal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sei_enroute_7by lan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1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3-6 (Into to personal financ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2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7-10 (saving &amp; budget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3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11-14 (banking &amp; consumeris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4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es 15-18 (credit &amp; deb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5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ge (student loans &amp; rent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6: Road to Financial Maturity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ulthood (investing &amp; retirement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sson 7: Road to Financial Maturity, Giv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2:44:50Z</dcterms:created>
  <dc:creator>admin</dc:creator>
  <dc:description/>
  <dc:language>en-US</dc:language>
  <cp:lastModifiedBy>ASD</cp:lastModifiedBy>
  <dcterms:modified xsi:type="dcterms:W3CDTF">2011-06-08T21:12:53Z</dcterms:modified>
  <cp:revision>4</cp:revision>
  <dc:subject/>
  <dc:title>Junior Class Advisory</dc:title>
</cp:coreProperties>
</file>